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42F-E56C-4A3A-903A-E913C4B4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2B3-FB83-4D16-AB53-D7CC68E4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10B-011F-4F74-B47B-6726CB199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B3C-C0CF-41D4-954D-2E45EEEF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00E05-1678-4CCF-B4AE-2E26E7A4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D833D-A56B-4906-8F60-EEE520AF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2A4E-71A2-48EE-9BE4-3F38FAE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E4EC-97E6-49FB-8254-D38C12BF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59962-5841-4394-AEF3-EDD8CF6C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9971-0FB0-43AD-A4B5-472D2E1B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EC8A7-3E17-44EF-9D80-2692B50D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BD4-8437-4884-90F9-2DF8E9EA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DB3D2-02C3-453D-8FA5-587D99C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F1BDF-2272-40E4-A85F-9BE68F0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EE47B-9B0A-48B9-A369-1AC2ACD3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69FFB-ACF9-4CF0-A430-58D009B1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C390C-25B8-4B20-A9BA-A2FA7AAA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FE3-A289-4DC0-B877-2BBD6D5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E5D-74FD-495C-B735-5F9B2DCB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38A-E6C7-4FD2-9E54-3383A43D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BD6-32A7-4430-8683-4A31DA9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1DA-1DFB-4EAB-82D8-41EBA65C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B7B-7B73-4743-9786-C2369F5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E34-1EDC-40DD-8D41-5504F80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994-BEAE-40CC-A160-EE2F66AE56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D65A-19B2-43DE-9D9A-A41F917F73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17733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very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in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a lot on pla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ery skilled wor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26:49Z</dcterms:created>
  <dc:creator>Joieree.Dawkins</dc:creator>
  <dc:description/>
  <dc:language>en-US</dc:language>
  <cp:lastModifiedBy>Joieree.Dawkins</cp:lastModifiedBy>
  <dcterms:modified xsi:type="dcterms:W3CDTF">2008-03-10T14:38:05Z</dcterms:modified>
  <cp:revision>2</cp:revision>
  <dc:subject/>
  <dc:title>A</dc:title>
</cp:coreProperties>
</file>